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993-A141-4C91-80E4-75FFE53B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E30-F1A1-4B60-951D-AEAFB8D6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495-98BF-49DE-A0F3-6419FB23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8649-575D-46B0-985F-EB2F6080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B1A6-6A05-48F5-BCFA-1850F3FC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06D-89AE-4071-89D6-5DE79238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3F23-A452-4D50-BFF4-30BB2C83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C99A-E9DC-4378-BBB9-D27E2E51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663-9211-4861-8CB3-94BF3D37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92B-1CD7-4345-BAA4-3BD1827C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C9CE-73C6-48DF-AE38-6C0B476F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636-76FF-4286-8FE8-17A8C436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504C-FA81-479E-8C47-38AA50433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-Rutherford Diagrams for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895480" y="2514600"/>
            <a:ext cx="3529080" cy="3316320"/>
            <a:chOff x="2895480" y="2514600"/>
            <a:chExt cx="3529080" cy="3316320"/>
          </a:xfrm>
        </p:grpSpPr>
        <p:sp>
          <p:nvSpPr>
            <p:cNvPr id="43" name=""/>
            <p:cNvSpPr/>
            <p:nvPr/>
          </p:nvSpPr>
          <p:spPr>
            <a:xfrm>
              <a:off x="4119480" y="3666960"/>
              <a:ext cx="100800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59120" y="3379680"/>
              <a:ext cx="1728720" cy="158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00200" y="3019320"/>
              <a:ext cx="2449440" cy="230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35480" y="3306600"/>
              <a:ext cx="215640" cy="21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767120" y="3306600"/>
              <a:ext cx="216000" cy="21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27120" y="4243320"/>
              <a:ext cx="216000" cy="21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95480" y="2587680"/>
              <a:ext cx="3456000" cy="3168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27120" y="3811680"/>
              <a:ext cx="21600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35480" y="2948040"/>
              <a:ext cx="21564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767120" y="2948040"/>
              <a:ext cx="21600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03840" y="3811680"/>
              <a:ext cx="21600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03840" y="4243320"/>
              <a:ext cx="216000" cy="21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263840" y="5180040"/>
              <a:ext cx="21600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95840" y="5180040"/>
              <a:ext cx="21564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95680" y="56149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51120" y="251460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08560" y="4098960"/>
              <a:ext cx="216000" cy="21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stated th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lectrons move around the nucleus in nearly spherical paths called orbitals, like planets around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number of orbitals for an element is the period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ximum number of electrons in an orbital is the number of the elements in the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ds in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periodic_table_of_elements"/>
          <p:cNvPicPr/>
          <p:nvPr/>
        </p:nvPicPr>
        <p:blipFill>
          <a:blip r:embed="rId1"/>
          <a:stretch/>
        </p:blipFill>
        <p:spPr>
          <a:xfrm>
            <a:off x="1763640" y="2205000"/>
            <a:ext cx="5543640" cy="32655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 rot="5400000">
            <a:off x="935280" y="3393360"/>
            <a:ext cx="1943280" cy="287280"/>
          </a:xfrm>
          <a:prstGeom prst="rect">
            <a:avLst/>
          </a:prstGeom>
          <a:solidFill>
            <a:srgbClr val="00ffff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 rot="5400000">
            <a:off x="1222560" y="3393000"/>
            <a:ext cx="1943280" cy="287640"/>
          </a:xfrm>
          <a:prstGeom prst="rect">
            <a:avLst/>
          </a:prstGeom>
          <a:solidFill>
            <a:srgbClr val="ffff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 rot="5400000">
            <a:off x="4895640" y="3249360"/>
            <a:ext cx="1655640" cy="287280"/>
          </a:xfrm>
          <a:prstGeom prst="rect">
            <a:avLst/>
          </a:prstGeom>
          <a:solidFill>
            <a:srgbClr val="00ff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 rot="5400000">
            <a:off x="5472000" y="3249360"/>
            <a:ext cx="1655640" cy="287280"/>
          </a:xfrm>
          <a:prstGeom prst="rect">
            <a:avLst/>
          </a:prstGeom>
          <a:solidFill>
            <a:srgbClr val="3333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7"/>
          <p:cNvSpPr/>
          <p:nvPr/>
        </p:nvSpPr>
        <p:spPr>
          <a:xfrm rot="5400000">
            <a:off x="6048360" y="3249360"/>
            <a:ext cx="1655640" cy="287280"/>
          </a:xfrm>
          <a:prstGeom prst="rect">
            <a:avLst/>
          </a:prstGeom>
          <a:solidFill>
            <a:srgbClr val="bbe0e3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 rot="5400000">
            <a:off x="6192000" y="3033000"/>
            <a:ext cx="1943280" cy="28728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2"/>
          <p:cNvSpPr/>
          <p:nvPr/>
        </p:nvSpPr>
        <p:spPr>
          <a:xfrm rot="5400000">
            <a:off x="5759280" y="3249360"/>
            <a:ext cx="1655640" cy="287280"/>
          </a:xfrm>
          <a:prstGeom prst="rect">
            <a:avLst/>
          </a:prstGeom>
          <a:solidFill>
            <a:srgbClr val="ff00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3"/>
          <p:cNvSpPr/>
          <p:nvPr/>
        </p:nvSpPr>
        <p:spPr>
          <a:xfrm rot="5400000">
            <a:off x="4355640" y="-387360"/>
            <a:ext cx="360360" cy="5545080"/>
          </a:xfrm>
          <a:prstGeom prst="rect">
            <a:avLst/>
          </a:prstGeom>
          <a:solidFill>
            <a:srgbClr val="ffff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4"/>
          <p:cNvSpPr/>
          <p:nvPr/>
        </p:nvSpPr>
        <p:spPr>
          <a:xfrm>
            <a:off x="179280" y="20257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od 1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orb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5"/>
          <p:cNvSpPr/>
          <p:nvPr/>
        </p:nvSpPr>
        <p:spPr>
          <a:xfrm rot="5400000">
            <a:off x="4392000" y="-63360"/>
            <a:ext cx="287280" cy="554508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6"/>
          <p:cNvSpPr/>
          <p:nvPr/>
        </p:nvSpPr>
        <p:spPr>
          <a:xfrm>
            <a:off x="7380360" y="234936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eriod 2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2 orb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7"/>
          <p:cNvSpPr/>
          <p:nvPr/>
        </p:nvSpPr>
        <p:spPr>
          <a:xfrm rot="5400000">
            <a:off x="4392000" y="295200"/>
            <a:ext cx="287280" cy="5545080"/>
          </a:xfrm>
          <a:prstGeom prst="rect">
            <a:avLst/>
          </a:prstGeom>
          <a:solidFill>
            <a:srgbClr val="ff00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8"/>
          <p:cNvSpPr/>
          <p:nvPr/>
        </p:nvSpPr>
        <p:spPr>
          <a:xfrm>
            <a:off x="179280" y="270828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eriod 3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3 orb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9"/>
          <p:cNvSpPr/>
          <p:nvPr/>
        </p:nvSpPr>
        <p:spPr>
          <a:xfrm rot="5400000">
            <a:off x="4355640" y="620280"/>
            <a:ext cx="360360" cy="5545080"/>
          </a:xfrm>
          <a:prstGeom prst="rect">
            <a:avLst/>
          </a:prstGeom>
          <a:solidFill>
            <a:srgbClr val="00ffff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0"/>
          <p:cNvSpPr/>
          <p:nvPr/>
        </p:nvSpPr>
        <p:spPr>
          <a:xfrm>
            <a:off x="7380360" y="299736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eriod 4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4 orb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-Rutherford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ohr-Rutherford diagrams represent the arrangement of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protons, neutrons, and electron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in an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these diagrams, the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number of protons and neutron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re written in the centre to represent the nucleus of the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ircles are drawn around the nucleus to represent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orbital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and electrons are shown in these orbi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Bohr-Rutherford diagra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237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hium (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916280"/>
            <a:ext cx="287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Number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2997360"/>
            <a:ext cx="251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rotons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3500280"/>
            <a:ext cx="2519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electrons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4005360"/>
            <a:ext cx="251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neutrons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421000"/>
            <a:ext cx="287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mass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96000" y="285264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2565360"/>
            <a:ext cx="172872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2205000"/>
            <a:ext cx="2449440" cy="230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249228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43640" y="249228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20574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for adding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orbital can hold up to 2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and third orbital can hold up to 8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illing orbitals with electrons, place the first 4 electrons in a compass point before pai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Bohr-Rutherford diagra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302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um (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91628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Number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2997360"/>
            <a:ext cx="251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rotons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500280"/>
            <a:ext cx="2519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electrons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4005360"/>
            <a:ext cx="251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neutrons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2421000"/>
            <a:ext cx="287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mass =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6000" y="285264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2565360"/>
            <a:ext cx="172872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2205000"/>
            <a:ext cx="2449440" cy="230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249228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49228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3640" y="3429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773360"/>
            <a:ext cx="3456000" cy="31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299736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213372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3640" y="213372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80360" y="299736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80360" y="3429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0360" y="436572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436572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48006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27640" y="1700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85080" y="328464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hr-Rutherford diagram of the first twenty element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527364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Bohr-Rutherford diagrams of the first TWENTY elements on the chart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144792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ons in the outer orbital are call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ALENCE 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334120" y="2362320"/>
            <a:ext cx="2909520" cy="2666520"/>
            <a:chOff x="5334120" y="2362320"/>
            <a:chExt cx="2909520" cy="2666520"/>
          </a:xfrm>
        </p:grpSpPr>
        <p:sp>
          <p:nvSpPr>
            <p:cNvPr id="124" name=""/>
            <p:cNvSpPr/>
            <p:nvPr/>
          </p:nvSpPr>
          <p:spPr>
            <a:xfrm>
              <a:off x="6229440" y="3243960"/>
              <a:ext cx="1120320" cy="1050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80520" y="2825280"/>
              <a:ext cx="2016360" cy="1888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4120" y="2510280"/>
              <a:ext cx="2909520" cy="2518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5560" y="2695320"/>
              <a:ext cx="335520" cy="314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99680" y="2695320"/>
              <a:ext cx="335520" cy="314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62800" y="2362320"/>
              <a:ext cx="335160" cy="314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80880" y="2438280"/>
            <a:ext cx="4572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valence electrons does lithium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1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ds in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eriodic_table_of_elements"/>
          <p:cNvPicPr/>
          <p:nvPr/>
        </p:nvPicPr>
        <p:blipFill>
          <a:blip r:embed="rId1"/>
          <a:stretch/>
        </p:blipFill>
        <p:spPr>
          <a:xfrm>
            <a:off x="1763640" y="2205000"/>
            <a:ext cx="5543640" cy="32655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 rot="5400000">
            <a:off x="935280" y="3393360"/>
            <a:ext cx="1943280" cy="287280"/>
          </a:xfrm>
          <a:prstGeom prst="rect">
            <a:avLst/>
          </a:prstGeom>
          <a:solidFill>
            <a:srgbClr val="00ffff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 rot="5400000">
            <a:off x="1222560" y="3393000"/>
            <a:ext cx="1943280" cy="287640"/>
          </a:xfrm>
          <a:prstGeom prst="rect">
            <a:avLst/>
          </a:prstGeom>
          <a:solidFill>
            <a:srgbClr val="ffff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228600" y="806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o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valence 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 rot="5400000">
            <a:off x="4895640" y="3249360"/>
            <a:ext cx="1655640" cy="287280"/>
          </a:xfrm>
          <a:prstGeom prst="rect">
            <a:avLst/>
          </a:prstGeom>
          <a:solidFill>
            <a:srgbClr val="00ff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 rot="5400000">
            <a:off x="5472000" y="3249360"/>
            <a:ext cx="1655640" cy="287280"/>
          </a:xfrm>
          <a:prstGeom prst="rect">
            <a:avLst/>
          </a:prstGeom>
          <a:solidFill>
            <a:srgbClr val="3333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 rot="5400000">
            <a:off x="6048360" y="3249360"/>
            <a:ext cx="1655640" cy="287280"/>
          </a:xfrm>
          <a:prstGeom prst="rect">
            <a:avLst/>
          </a:prstGeom>
          <a:solidFill>
            <a:srgbClr val="bbe0e3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9"/>
          <p:cNvSpPr/>
          <p:nvPr/>
        </p:nvSpPr>
        <p:spPr>
          <a:xfrm rot="5400000">
            <a:off x="6192000" y="3033000"/>
            <a:ext cx="1943280" cy="287280"/>
          </a:xfrm>
          <a:prstGeom prst="rect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 rot="5400000">
            <a:off x="5759280" y="3249360"/>
            <a:ext cx="1655640" cy="287280"/>
          </a:xfrm>
          <a:prstGeom prst="rect">
            <a:avLst/>
          </a:prstGeom>
          <a:solidFill>
            <a:srgbClr val="ff00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1371600" y="14922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oup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 valence 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2438280" y="7621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oup 1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 valence 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4267080" y="7621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oup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 valence 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4952880" y="1371600"/>
            <a:ext cx="15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oup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 valence 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9"/>
          <p:cNvSpPr/>
          <p:nvPr/>
        </p:nvSpPr>
        <p:spPr>
          <a:xfrm>
            <a:off x="6248520" y="76212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oup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 valence 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0"/>
          <p:cNvSpPr/>
          <p:nvPr/>
        </p:nvSpPr>
        <p:spPr>
          <a:xfrm>
            <a:off x="7086600" y="1295280"/>
            <a:ext cx="182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oup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 valence 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2 for 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3048120" y="144792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oup 1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valence 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21:52:25Z</dcterms:created>
  <dc:creator>User</dc:creator>
  <dc:description/>
  <dc:language>en-US</dc:language>
  <cp:lastModifiedBy>User</cp:lastModifiedBy>
  <dcterms:modified xsi:type="dcterms:W3CDTF">2012-02-08T14:48:56Z</dcterms:modified>
  <cp:revision>5</cp:revision>
  <dc:subject/>
  <dc:title>Bohr-Rutherford diagrams for atoms</dc:title>
</cp:coreProperties>
</file>